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4E8-0700-40AE-8F0E-D288529F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C1E-F073-4AE5-9EE2-D63B77E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696-8F6E-4F75-AB85-5F7E1986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884-97A1-4079-A73A-3D658E3A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E759-AFEF-4D3B-9A46-68A0FF61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22F0-7F29-4F6A-9B04-A27A07B3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19C4-7C6E-4482-A069-BE9C9A1A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9716-4BF7-4617-92CA-207E9D3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A392-92B4-4F69-A5D6-89D7989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19B3-3101-42EB-8A2A-3748EF60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2315-D9CA-4313-A5B4-ADA6B671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CD0-01E0-4CC1-BC40-C0BAEDE9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C343-AD2B-40F5-A9DB-507757AD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4FF-8155-4381-A58E-EBBF8FB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605-DAB5-4099-B4F5-B85EF5A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EC05-A64C-48A4-93FD-8341783E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93A3-52F8-4CFD-9339-EBAC78FE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ED3-D391-482B-9C89-A349F64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CF1-47C8-40B0-9EBF-6F24E34D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A80-2472-48F8-910A-B9923AF5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848-733B-4C41-849A-EBFD9C3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F9B-BAE0-40AC-AC86-A309FAD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049-8943-4A23-8707-811D1FD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470-56EB-4B8E-A640-7EEFD44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2D3A-E8A7-4982-8BE0-8CF2ACEBA9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2CFC-1A66-46DB-A3D0-A7CD23BE08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3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4.png"/><Relationship Id="rId6" Type="http://schemas.openxmlformats.org/officeDocument/2006/relationships/image" Target="../media/image2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6.jpe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7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http://www.toledo-bend.com/colorblind/Ishihara.html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P Psychology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Sensation and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Section 5Q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2438280"/>
            <a:ext cx="8610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ear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bration is converted to neural impulses which travel along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uditory n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cib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sure sound wave intensity (loud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sures high/low frequency (in-tu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5029200" cy="6019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29200" y="2133720"/>
            <a:ext cx="41148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ise &amp;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not only affects hearing it also affects our behavior (stress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especially stressful when unanticipated or uncontrol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60958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A 10 decibel increase results in a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Tahoma"/>
              </a:rPr>
              <a:t>ten-fold increase in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228600" y="1955880"/>
            <a:ext cx="6745320" cy="4903200"/>
            <a:chOff x="228600" y="1955880"/>
            <a:chExt cx="6745320" cy="4903200"/>
          </a:xfrm>
        </p:grpSpPr>
        <p:sp>
          <p:nvSpPr>
            <p:cNvPr id="309" name=""/>
            <p:cNvSpPr/>
            <p:nvPr/>
          </p:nvSpPr>
          <p:spPr>
            <a:xfrm>
              <a:off x="959040" y="2875320"/>
              <a:ext cx="5892120" cy="275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59040" y="4254480"/>
              <a:ext cx="58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9040" y="4943880"/>
              <a:ext cx="58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6820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9208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1148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1596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3984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6372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760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3536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1560" y="3103200"/>
              <a:ext cx="613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8600" y="3792960"/>
              <a:ext cx="7264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480" y="4480920"/>
              <a:ext cx="711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1200" y="5141520"/>
              <a:ext cx="709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2240" y="5619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25520" y="5619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7720" y="56192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18480" y="56192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0920" y="56192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9640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2028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4416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3644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1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60680" y="561924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3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59040" y="3105000"/>
              <a:ext cx="58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59040" y="3105000"/>
              <a:ext cx="54759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959040" y="3257640"/>
              <a:ext cx="5337360" cy="306360"/>
              <a:chOff x="959040" y="3257640"/>
              <a:chExt cx="5337360" cy="306360"/>
            </a:xfrm>
          </p:grpSpPr>
          <p:sp>
            <p:nvSpPr>
              <p:cNvPr id="338" name=""/>
              <p:cNvSpPr/>
              <p:nvPr/>
            </p:nvSpPr>
            <p:spPr>
              <a:xfrm>
                <a:off x="959040" y="3258000"/>
                <a:ext cx="55476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13800" y="3258000"/>
                <a:ext cx="55440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068200" y="3257640"/>
                <a:ext cx="235692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25120" y="3258000"/>
                <a:ext cx="762120" cy="153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5187240" y="3334320"/>
                <a:ext cx="62352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1120" y="3334680"/>
                <a:ext cx="34632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57800" y="3411360"/>
                <a:ext cx="138600" cy="15264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959040" y="3487680"/>
              <a:ext cx="5129280" cy="305640"/>
              <a:chOff x="959040" y="3487680"/>
              <a:chExt cx="5129280" cy="305640"/>
            </a:xfrm>
          </p:grpSpPr>
          <p:sp>
            <p:nvSpPr>
              <p:cNvPr id="346" name=""/>
              <p:cNvSpPr/>
              <p:nvPr/>
            </p:nvSpPr>
            <p:spPr>
              <a:xfrm>
                <a:off x="5533920" y="3640680"/>
                <a:ext cx="277200" cy="76680"/>
              </a:xfrm>
              <a:prstGeom prst="line">
                <a:avLst/>
              </a:prstGeom>
              <a:ln w="76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959040" y="3487680"/>
                <a:ext cx="5129280" cy="305640"/>
                <a:chOff x="959040" y="3487680"/>
                <a:chExt cx="5129280" cy="3056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959040" y="3488040"/>
                  <a:ext cx="1109160" cy="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68200" y="3488040"/>
                  <a:ext cx="277200" cy="7596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2345400" y="3487680"/>
                  <a:ext cx="346320" cy="7596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91720" y="3488040"/>
                  <a:ext cx="1871280" cy="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63360" y="3488040"/>
                  <a:ext cx="970200" cy="15264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811120" y="3717360"/>
                  <a:ext cx="277200" cy="7596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959040" y="3640680"/>
              <a:ext cx="5198400" cy="842760"/>
              <a:chOff x="959040" y="3640680"/>
              <a:chExt cx="5198400" cy="842760"/>
            </a:xfrm>
          </p:grpSpPr>
          <p:sp>
            <p:nvSpPr>
              <p:cNvPr id="355" name=""/>
              <p:cNvSpPr/>
              <p:nvPr/>
            </p:nvSpPr>
            <p:spPr>
              <a:xfrm>
                <a:off x="959040" y="3717720"/>
                <a:ext cx="221832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177360" y="3640680"/>
                <a:ext cx="138240" cy="76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315600" y="3641040"/>
                <a:ext cx="1247400" cy="76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63360" y="3717720"/>
                <a:ext cx="901080" cy="382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464800" y="4100400"/>
                <a:ext cx="346320" cy="76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11120" y="4177080"/>
                <a:ext cx="346320" cy="30636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959040" y="3794760"/>
              <a:ext cx="5198400" cy="1378440"/>
              <a:chOff x="959040" y="3794760"/>
              <a:chExt cx="5198400" cy="1378440"/>
            </a:xfrm>
          </p:grpSpPr>
          <p:sp>
            <p:nvSpPr>
              <p:cNvPr id="362" name=""/>
              <p:cNvSpPr/>
              <p:nvPr/>
            </p:nvSpPr>
            <p:spPr>
              <a:xfrm>
                <a:off x="959040" y="3947760"/>
                <a:ext cx="1039680" cy="7668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998720" y="3871080"/>
                <a:ext cx="693000" cy="15336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692080" y="3794760"/>
                <a:ext cx="623520" cy="7632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15600" y="3794760"/>
                <a:ext cx="623520" cy="7632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39480" y="3871080"/>
                <a:ext cx="623520" cy="15336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63360" y="4024440"/>
                <a:ext cx="831600" cy="68940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95320" y="4713840"/>
                <a:ext cx="415800" cy="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11120" y="4713840"/>
                <a:ext cx="346320" cy="45936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999080" y="6016680"/>
              <a:ext cx="44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of tone in waves per 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8400" y="649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12480" y="64908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99680" y="6490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92080" y="6706080"/>
              <a:ext cx="12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563360" y="6706080"/>
              <a:ext cx="12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2880" y="1955880"/>
              <a:ext cx="2305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mplitude (loudness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ire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ception relative t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-29 year-old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010280" y="2819520"/>
            <a:ext cx="19051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2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3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-4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-5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 years and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476760" y="3048120"/>
            <a:ext cx="5331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324120" y="358128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172200" y="3885840"/>
            <a:ext cx="838080" cy="2286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248520" y="4572000"/>
            <a:ext cx="761760" cy="7632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5257800"/>
            <a:ext cx="914400" cy="0"/>
          </a:xfrm>
          <a:prstGeom prst="line">
            <a:avLst/>
          </a:prstGeom>
          <a:ln w="2844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666160" y="1981080"/>
            <a:ext cx="586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lder people suffer neural hearing loss for higher frequencies/low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828800" y="2743200"/>
            <a:ext cx="563868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0" y="5334120"/>
            <a:ext cx="2209680" cy="7038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ches ear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5486400"/>
            <a:ext cx="2438280" cy="7038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ches ear so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4419720" y="5181480"/>
            <a:ext cx="1752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209680" y="5105520"/>
            <a:ext cx="304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1828800"/>
            <a:ext cx="6858000" cy="13737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ime delay between ears receiving sound waves contributes to locating its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28600" y="2076480"/>
            <a:ext cx="89154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Taste Sen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te is a “chemical” sense..sweet, sour, salty, b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m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ell is also a “chemical”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ely how olfactory receptors work is a 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ors recognize odors individ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ensory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that one sense may influenc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ell of food significantly influences its t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57200" y="19051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mell/Tas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 activate receptors which send signals along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lfactory n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666880" y="2971800"/>
            <a:ext cx="6477120" cy="3886200"/>
            <a:chOff x="2666880" y="2971800"/>
            <a:chExt cx="6477120" cy="3886200"/>
          </a:xfrm>
        </p:grpSpPr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2666880" y="2971800"/>
              <a:ext cx="6477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5743440" y="3816360"/>
              <a:ext cx="269640" cy="1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89440" y="3534840"/>
              <a:ext cx="539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66880" y="6181920"/>
              <a:ext cx="226692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54720" y="5224680"/>
              <a:ext cx="1888920" cy="13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35560" y="4913640"/>
              <a:ext cx="17924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ptor cell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factory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4160" y="4942800"/>
              <a:ext cx="820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s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49800" y="4661280"/>
              <a:ext cx="199692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59440" y="516816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308720" y="4548600"/>
              <a:ext cx="10800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08360" y="4548600"/>
              <a:ext cx="43164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308360" y="4548600"/>
              <a:ext cx="21564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90520" y="35348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l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80360" y="3060720"/>
              <a:ext cx="864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311800" y="3985560"/>
              <a:ext cx="593640" cy="50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6121440" y="3929040"/>
              <a:ext cx="53928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933800" y="3534840"/>
              <a:ext cx="701640" cy="112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6121080" y="3422160"/>
              <a:ext cx="809640" cy="73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304920" y="3276720"/>
          <a:ext cx="1933560" cy="307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276720"/>
                    <a:ext cx="193356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28600" y="1905120"/>
            <a:ext cx="891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0" y="2362320"/>
            <a:ext cx="4400640" cy="44956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45720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te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6019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factory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371600" y="42667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2819160" y="4419360"/>
            <a:ext cx="15228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52880" y="2286000"/>
            <a:ext cx="38862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Olfactory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on temporal lobe near taste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ed to areas of memory storage which helps explain smell triggered mem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"/>
          <p:cNvGraphicFramePr/>
          <p:nvPr/>
        </p:nvGraphicFramePr>
        <p:xfrm>
          <a:off x="4038480" y="2362320"/>
          <a:ext cx="1933560" cy="30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2362320"/>
                    <a:ext cx="193356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6095880" y="3429000"/>
            <a:ext cx="1067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Tahoma"/>
              </a:rPr>
              <a:t>B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Sw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562360" y="5029200"/>
            <a:ext cx="5331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715000" y="457200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7150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105160" y="3657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28600" y="1905120"/>
            <a:ext cx="891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2286000"/>
            <a:ext cx="86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80880" y="1981080"/>
            <a:ext cx="3606840" cy="46483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62520" y="1905120"/>
            <a:ext cx="5181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kin Sensations (Tou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sure is the only skin sensation with identifiable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 between warmth, cold, pain remains a 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warm/cold receptors are activated together you feel “ho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905120"/>
            <a:ext cx="83059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he Human S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 Sen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… Hearing …Taste-Smell …Touch/Skin Sensation …Vestibular … Kines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ght enters the eye through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Pup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focused (and inverted) by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Le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projected onto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R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Co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Ret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it is converted to neural impulses and sent through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Optic Ner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lind spot) to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28600" y="1905120"/>
            <a:ext cx="891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057400"/>
            <a:ext cx="289548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stibular Sen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ee semicircular canals in the ear regulate the sense of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2819520" y="1797120"/>
            <a:ext cx="6324480" cy="39942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5911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inesthetic Sen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ines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ceptors in muscles, tendons, and joints assist with posture and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828800" y="2895480"/>
            <a:ext cx="320040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0" y="1981080"/>
            <a:ext cx="9144000" cy="4749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2209680"/>
            <a:ext cx="30481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od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y light sensitive, sense black/white, useful for night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ed opposite to lens, color sensitive, requires mor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429000" y="2286000"/>
            <a:ext cx="5750640" cy="3809880"/>
            <a:chOff x="3429000" y="2286000"/>
            <a:chExt cx="5750640" cy="3809880"/>
          </a:xfrm>
        </p:grpSpPr>
        <p:sp>
          <p:nvSpPr>
            <p:cNvPr id="158" name=""/>
            <p:cNvSpPr/>
            <p:nvPr/>
          </p:nvSpPr>
          <p:spPr>
            <a:xfrm>
              <a:off x="3429000" y="2909880"/>
              <a:ext cx="571500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34760" y="2286000"/>
              <a:ext cx="49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eptors in the Human Ey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35470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39718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67964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7240" y="311040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63320" y="311040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R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75800" y="35794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75440" y="4027680"/>
              <a:ext cx="160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tion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552924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74000" y="478152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nsitivity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 l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74000" y="5631120"/>
              <a:ext cx="21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or sensitiv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60958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54480" y="563112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4120" y="4781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3040" y="402624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53760" y="357948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87800" y="56340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87440" y="478152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86720" y="4027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iph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6720" y="357948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0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762760" cy="6807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895480" y="3062160"/>
            <a:ext cx="5867640" cy="3643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9051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richromatic (three color)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different retinal col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8600" y="2362320"/>
            <a:ext cx="4038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or De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lor blind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r all of the cones do not function properly (gene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olor Blindness Test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!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(Cli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4432320" y="1828800"/>
            <a:ext cx="4711680" cy="4800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2133720"/>
            <a:ext cx="7162560" cy="40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nocular Fu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combination of the eye’s two separate images into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tinal Disparit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difference between the images sensed by each re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reopsi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ability to see depth as a result of retinal disp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4419720"/>
            <a:ext cx="83818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609480" y="1949400"/>
            <a:ext cx="8229600" cy="4908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7-01-11T12:45:23Z</dcterms:modified>
  <cp:revision>200</cp:revision>
  <dc:subject/>
  <dc:title>No Slide Title</dc:title>
</cp:coreProperties>
</file>